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0B13-F110-4F7D-8386-7716C5BAC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06F7-3C91-4C8C-9615-0EED6F40A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EA83-B900-4855-8492-3DBBE4527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2068-7514-45D2-AFC4-1AB52C19D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0A99-F0CF-435F-B134-E0A939F86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1FC0-4A4D-4FF3-88E0-06DED6F78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7653-CC5D-42DB-91E4-2CDADE89E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2170-B905-48EE-AFC5-5829F1AD4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A3AE-E523-418C-9504-7ECEB1516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E211-122A-4F6C-9200-C75B2266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232D-0CFC-404F-81C3-E0B5FBB9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CFF7-2C4C-4DC5-B51A-7B83E77C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E9521-4D4D-4C04-9739-471B79C7DF0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50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15:07Z</dcterms:created>
  <dc:creator>Peter Watson</dc:creator>
  <dc:description/>
  <dc:language>en-US</dc:language>
  <cp:lastModifiedBy>Peter Watson</cp:lastModifiedBy>
  <dcterms:modified xsi:type="dcterms:W3CDTF">2010-10-04T14:15:07Z</dcterms:modified>
  <cp:revision>1</cp:revision>
  <dc:subject/>
  <dc:title>Slide 1</dc:title>
</cp:coreProperties>
</file>